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E40-2371-4978-9439-5EC16020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CC5-1564-411E-AAD1-58A27F2E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F4D-60CD-4B02-98F3-8AFD8E93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B68-BDA0-4EE3-B66E-58A9B2F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1388-848B-416D-9A08-134DA19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503E-BCFC-4EE4-9D44-4F40CA39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0E0-0D61-45DC-8889-13D23D9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6359-DC54-4FF7-8A56-9EB55DB4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3352-23B8-4FF6-902B-5006000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426-E9BC-4F50-9839-C403DEC7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01DE-E7A3-49F5-ADDE-8F90A3D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15F-14B4-484F-903D-85D7AB1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21D9-1900-4519-9924-BACA22A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FC60-29A7-43D1-BA56-886908E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986-506E-4AEE-8C73-1C8CD49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DC9-2B25-47F4-B191-EEBB9A14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62A5-F6EF-4B27-B7B6-D9BD0138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01A-E703-4AD0-BFAE-5FF1EB6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3F3-D2BD-43C6-BEA2-1A9AF7DE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E35-E6BD-484D-B810-2E386C2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6C6-9F62-4898-958A-64D39533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213-4D05-45AA-95BE-6D67CA1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F51-BCA0-4A36-AC82-0D33A1E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A04-D616-4D44-9DF4-B4510D7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EFCB-3E97-4B2C-82C6-8B2DE01ECFB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CC5-013C-4238-8604-8D14498AE83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1" i="1" lang="pt-BR" sz="56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br>
              <a:rPr sz="5600"/>
            </a:br>
            <a:br>
              <a:rPr sz="5600"/>
            </a:br>
            <a:r>
              <a:rPr b="1" i="1" lang="pt-BR" sz="4800" spc="-1" strike="noStrike">
                <a:solidFill>
                  <a:srgbClr val="ffcc66"/>
                </a:solidFill>
                <a:latin typeface="Arial"/>
              </a:rPr>
              <a:t>RESULTADOS PARCIAIS DO GRUPO DE TRABALHO DE BARRAGENS DE REJEITO</a:t>
            </a:r>
            <a:br>
              <a:rPr sz="4800"/>
            </a:br>
            <a:br>
              <a:rPr sz="76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5F58-7784-4A86-A8BE-EE938C2558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Objetivo da Apresent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resultados parciais GT Barragens de reje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or e aprovar alteração dos objetivos ini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3BF-34B1-468E-AFB8-FA9F56B06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icio: palestra do DNPM (Alexandre) sobre Barragens de Rejeito na Min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ção de GT para elaboração de Proposta de Mo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zação de 3 reuniões de traba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ção de nova proposta de objetivo do G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 atuais: SRH/MMA, ANA, Ministério dos Transportes, DNP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ustificativa de mudança: improdutividade, em geral sem resultado, perpetua ações desarticu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A70-7731-4518-9DBC-21EAA23679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Objetivo Pretendido para o G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r proposta de construção/criação de Rede de Articulação e Comissão Gestora. Moção de encaminh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: SRH/MMA, ANA, DNPM, IBAMA, CONFEA, Ministério dos Transportes, Comitê Brasileiro de Barragens, Representantes ambientais estaduais, outros a serem identificados ou que quiserem particip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850-C607-4C69-8388-AC6F0EDA4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Rede de articulação - Obje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ticular e acompanhar a evolução dos assuntos ligados à gestão da segurança de barragens de rejeito e encaminhar propostas de procedimentos integrados para problemas diagnosti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36F-36BE-4127-A76D-A77A8D4E4F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Rede de articulação – Comissão Gesto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RH/MMA – Articulador execu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B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Órgãos ambientais estad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nir normas de atuação/regiment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D63-1A23-4ED3-965E-2E3BBEE6E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Rede de articulação – Desenho Inic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post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os os órgãos mantém suas funções, fortalec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stro com alimentação permanente (barragens prevista, em construção, em atividade, abando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cedimentos integrados de acordo com competências das institui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unicação permanente e contato direto entre atores normalmente desconhec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pela internet, aberta a 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imentação mediante sen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dutos, ma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ção junto ao CNRH/CON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outorga do projeto, licenci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258-905B-4131-BBED-C676190BC1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676520" y="0"/>
            <a:ext cx="6858000" cy="6858000"/>
            <a:chOff x="1676520" y="0"/>
            <a:chExt cx="6858000" cy="6858000"/>
          </a:xfrm>
        </p:grpSpPr>
        <p:sp>
          <p:nvSpPr>
            <p:cNvPr id="102" name=""/>
            <p:cNvSpPr/>
            <p:nvPr/>
          </p:nvSpPr>
          <p:spPr>
            <a:xfrm>
              <a:off x="3819600" y="806760"/>
              <a:ext cx="1571400" cy="9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99"/>
                  </a:solidFill>
                  <a:latin typeface="Verdana"/>
                </a:rPr>
                <a:t>Rede de Articul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9440" y="0"/>
              <a:ext cx="114300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adast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(IBAM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2554920"/>
              <a:ext cx="128592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c99ff"/>
                  </a:solidFill>
                  <a:latin typeface="Verdana"/>
                </a:rPr>
                <a:t>Comissão Gesto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6520" y="941400"/>
              <a:ext cx="142884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Diagnóstico e Açõ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9440" y="215136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Produ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9760" y="1342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3630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34360" y="309276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Feder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303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34360" y="376488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Estad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510984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360" y="457200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Municip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916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77280" y="537876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O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68580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4360" y="6320160"/>
              <a:ext cx="20001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Comitês de Ba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62680" y="10756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Even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9760" y="201708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omunic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33840" y="18824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105360" y="1748160"/>
              <a:ext cx="5713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8280" y="120996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8280" y="403200"/>
              <a:ext cx="42840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91360" y="403200"/>
              <a:ext cx="28548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4280" y="12099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8440" y="1882440"/>
              <a:ext cx="42840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3840" y="3764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443736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3840" y="524448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33840" y="60512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A49-FBCC-4CAB-954C-FF34BCA874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Próximas aç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convite ao IBAMA, CONFEA e outros que se determina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pergunta ao CONFEA ou outros determin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erfeiçoamento desenho inicial a aprtir de propo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1A9-3CAA-4F76-8214-00D5659D8A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59:54Z</dcterms:created>
  <dc:creator>Francis Vargas</dc:creator>
  <dc:description/>
  <dc:language>en-US</dc:language>
  <cp:lastModifiedBy>Francis Priscilla</cp:lastModifiedBy>
  <dcterms:modified xsi:type="dcterms:W3CDTF">2003-08-12T14:49:35Z</dcterms:modified>
  <cp:revision>224</cp:revision>
  <dc:subject/>
  <dc:title>Águas Subterrãmeas</dc:title>
</cp:coreProperties>
</file>